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8FA-91C6-479F-9A60-8ECDA47B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01C-1495-4BA0-8A14-339C8769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D4D-7C08-4BD6-95BD-06665C2C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C5B-3046-4417-8BB2-BE196C95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B87-37B5-45A4-996F-A34DCC9A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01B-C9D8-4947-8389-7F982512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684-2467-4EFA-9CC6-909D2511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057-BF14-4765-B966-6D7CFD8F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36B-93F8-4911-A4C1-C0E90280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3FC-BCD9-44D4-94B2-C7EAA9A0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DCD-8895-44DF-8672-9A716EC6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D80-644B-4E2C-9215-7E83B52D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491B-FAF0-4ECF-9072-CE6D5A558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7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4 de abril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6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y Ser: el pretér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la tabla de la pagina 135 en el cuad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36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r y Ser en el Preter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reg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igual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s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orma del “YO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emp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leva acento (‘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os verbos los debes MEMORIZ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u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u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uis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u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.ella.U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uim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u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.ellas.U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uer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ue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36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137 (1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43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7:28:08Z</dcterms:created>
  <dc:creator>Helen Zumaeta</dc:creator>
  <dc:description/>
  <dc:language>en-US</dc:language>
  <cp:lastModifiedBy>Helen Zumaeta</cp:lastModifiedBy>
  <dcterms:modified xsi:type="dcterms:W3CDTF">2012-04-04T17:35:08Z</dcterms:modified>
  <cp:revision>2</cp:revision>
  <dc:subject/>
  <dc:title>Me llamo _________ Clase 7IM La fecha es el 4 de abril del 2012</dc:title>
</cp:coreProperties>
</file>